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72F-EEC1-43FC-96D1-A654BCDD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BAE-7E6F-422D-82CF-2DABA2B2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9C4-7FE2-42DE-BD2F-DDC9A885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0E1-6CBA-49F2-93F2-97367696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CCAF-BFCF-4B57-90F8-AF374E32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2DAE-2891-4B7E-B8AC-706CE3C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2D0B-147E-4312-9D24-3B83B24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EBF0-0B1B-4DA9-8888-7030C54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5CAF-DB34-40A6-A090-A3E6F845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E7BF-2245-4296-A609-E0E612B4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175D-0453-41D8-BD32-FDFCA8F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146-3CC0-436D-9018-94F6D052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C83B-54FF-4894-91CC-44043BB2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3F73-C779-4EAB-9387-8C51C661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FF0B-ECE3-4CE3-A24C-0AA799AD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6CA1-612D-404F-8D48-2F8B950B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57C4-7BEE-4AB3-A044-5B7DCDD8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4D1-5034-40D7-8991-E31BC641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07C-0AB7-4A2C-8C23-7AA472B3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90B-CF62-4B74-8788-1F06E8E6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A8D-8E49-4B1B-9811-DC9B0157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079-4218-4117-98AD-36FDC233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D4F-4F4D-4550-810B-EDB383E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3F6-2321-4C41-ADE5-BC85AEDD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4ED2-2184-4D89-8244-5B3649595B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6408-B5B6-4744-B833-15F940EF4D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: Reading Key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number the paragraphs together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a pencil!    Use a pencil!    Use a penc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Circle Key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erm is a word or phrase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to the meaning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irst time, let’s do thi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we look for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s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ain, let’s read and underline main id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rticle (AKA what it is trying to tell us)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thi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finish the article and try marking the text ag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t: 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Underli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rst, read the rest without mar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, 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! Do you see any repeating words or variations on the word (including the words we have already circ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r: Put your papers side by side and see if you circled the same things. If not, ask your partner, “Why did you circle tha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underline main ide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Underli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you see information ab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, how much of this did we answ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fter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reading the text, my view of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connection to schoo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 changed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: first, _________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econd, 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______________ my belief that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significant question this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s for me is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, this text taught me 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part argument stat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_______title of text______,”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reports that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. 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ACT report,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ing Surve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Reading Survey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ink/Pair/Sh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 with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what you thin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tical thin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ing the tex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OK TO NOT KNOW RIGHT N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ter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ability to read and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itical Th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inking deeply and in a way that seeks to understand, evaluate and apply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ing th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reading stategy where the reader writes on the text in order to organize and isolate important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LA ci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ademic writing, it is very important to show where a text you are using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are used to buil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ver th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question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tting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nd practice reading strateg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 question 1 from “Content Questions” page in back of p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r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text before we 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on the writer’s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te it wa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spa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sential 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read, it is good to familiarize yourself with the vocabulary you’ll encou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we begi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IMPORTANT that everyone gets a chance to read this section without feeling 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aintain SILENCE during SILENT READING. If you finish early, read the section again to notice something you didn’t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r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ragraphs 1-5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r/Sha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 Discuss with your partner some things you notice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way to isolate information in a text in order to understand it better. Marking has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ke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uthor’s claims (most important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8:18Z</dcterms:created>
  <dc:creator>Rick Millican</dc:creator>
  <dc:description/>
  <dc:language>en-US</dc:language>
  <cp:lastModifiedBy>Tengstrand</cp:lastModifiedBy>
  <dcterms:modified xsi:type="dcterms:W3CDTF">2010-09-16T17:39:48Z</dcterms:modified>
  <cp:revision>17</cp:revision>
  <dc:subject/>
  <dc:title>Study: Reading Key to Success</dc:title>
</cp:coreProperties>
</file>